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FE6-1FD7-49F1-9948-DFCF845D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07F-FCB5-4DB1-BE44-6ACB363B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C8AFA-7B7D-4F24-8F36-A98FAE56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21CEA-A82C-4F61-9F29-FCD14EF4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4C683-E3FC-450B-B252-A10C6771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157B4-1559-432C-BB5D-5324F4C1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8A90F-F6DB-48AA-8FC4-0565988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7E3AC-7966-4A1A-B966-D0E5A931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F1A79-5988-4A11-9A59-FA861642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B1F96-D120-4388-96E0-3EAD4197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274D1-4892-4505-801C-87A7CEDB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DA8-0293-4AAC-89DB-FD2DAC3E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666-262A-4C21-853F-B3C3ED59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AD29-B0B9-4760-8B6B-2F7F576B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638B-59AD-43AE-B128-EAC0D7AE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3507-818D-4513-8E82-EEDE6F3F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587A-3D52-4314-88CC-15C7643A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920A-3143-4EA7-8F49-A3FA8292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841D-ACE4-4306-8000-0A49BB53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9EE4-53E5-41CA-B040-D6CAA3E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3F3-1399-4332-A9FC-1989B584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51F3-25C0-40DA-B5A2-D014F2F8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D026-F378-442C-BEB0-0CD72EAD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3EBC-8AD7-47BC-BE49-9530A6CC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1ABC-3343-4747-B22D-0BF836E5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1CE8-C239-4023-9BE6-8F4217D5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1069-982F-4C10-B51B-3DE01F1D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C7E1-1151-4AA6-9D19-17C2F131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A2BF-15D2-4412-83BB-4AA26AAE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B2C33-8494-4911-BC05-BFE707A3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1B32-161D-473D-8035-56BB0487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979-3BB8-46FD-9063-3FFB89C3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45C3-C0E6-4EC4-8003-550C4B9D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3EE7D-D94C-4A38-A8A1-7936399A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C274-EF87-49EA-85D3-31657AF4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65C29-EB7F-4B5A-9FEB-E0080C07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E6E40-E5BD-4A95-908A-48A99B86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00C10-F390-4694-8AAC-720702FE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5D246-2133-4898-BCA0-B8CA1FD7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1C22-508F-4414-82FF-EDF5E44D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ABD5A-458A-4005-B025-702995A7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05938-13FC-4BAA-A86B-CE3BE5C3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5A6-866C-4FCE-BD98-BA1D5425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75B30-4C18-483E-B2BA-6C86B3F8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32291-F238-4C66-BA50-5F8BD4BC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27878-8EF5-44EA-8257-261B25C7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9C177-17FB-42EC-B14C-32BA71FA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A221B-B296-4B8C-B08F-A5B5314F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B416B-51DC-4D4E-9C03-3E89DDBD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471C0-1A23-4208-9E41-4683D616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EF7CC-F1DF-4A1C-954C-7C1369E9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A6F3D-FD6C-40BF-8856-B3274A11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BA48A-5040-4695-9939-78BBFC0E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8F3-3313-47B8-864E-70841718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B770A-D0CD-4E80-BD6D-BF7D6465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FBA76-C1D2-465A-BCFF-6BD96265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5CC45-D054-4206-B68B-0D294BFD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15EF6-94CD-4D38-8198-4AF15453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DFA72-EC1C-462E-A6B8-3280D5BD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6CF26-0CA1-4481-9439-598A68BF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69A44-21DE-41BD-A9AB-6B15E719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1F852-1FCC-4925-9F0D-D13FEE93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1BEC0-EB52-42BF-9952-D0B3520C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35C24-F7A8-4D07-B2E1-14B8D82F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563-B017-4747-8C32-0124086D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9F512-7005-4577-BCF7-9F126311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B160A-7F4A-4D9D-8604-2F6FAD5B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CE397-2382-4021-8F77-AE17FCCE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16058-B9E9-4603-9653-1AB99BE3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7069B-5468-4DA0-9F7C-6B3886CA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4D392-7D37-4939-8E07-259B72E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34149-3B8C-4B53-9738-FE3C2F4B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B31A3-C03A-415A-9DE1-D278CBC6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1981A-8FD4-418E-93C7-CF104274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3636F-4EA2-4870-8A86-A4A28503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5E4-D9C8-4B85-B167-2513B3C3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210EF-9AFD-414C-A3FF-C08437E7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9F547-4FC1-4BE3-90B0-AA4C66DE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FB2BE-CEBC-43EC-B909-CB64CE9A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45B4F-D940-49C9-95A2-674248F1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BE086-2801-4BE9-B8D3-F2CD5238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03B98-FCCD-40BE-B66D-36E17A96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6200A-3285-49E3-AD4D-B37F69E3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25DA2-1902-4E06-8C16-1EDAFFB0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2989C-1886-4224-96A3-C2E555FD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12717-C74F-479B-BECD-F780941C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D7D-9FB0-4D9C-9B58-D41A54BC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59220-C6C1-49BF-B61C-E5EE68B2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67275-83F8-42BA-B8F0-D77C18DF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56146-6460-4C31-8261-0F87C999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8A342-97F6-4979-9FB6-C65F462D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95394-06D7-4EB6-A53E-A44AEAF4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E4766-EB19-4BDA-B2E5-87B0E040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3C131-6C30-44F1-83C5-200B8D33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FFB67-1FB7-4F85-9675-D1CCDEEC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95FFE-ED4A-4F82-8CCB-916FEDDD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8C051-08A5-4CB9-A847-22580D4D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D9EE-E423-43E6-9AF4-99FCAD6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2D7D2-2E91-4841-B78B-7748D76E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F0172-5003-46EB-A7DC-DCB58CC9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09C25-C732-405A-B3BE-F30718E5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2540E-33EC-49C9-ADD9-AB71D94C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3903B-20BE-4E71-9CA8-F619078D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E758B-5092-440C-B91F-C030EBE1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06908-EE6A-470B-98EE-4134C41D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3A97B-E7C0-4727-9CB6-5A1050C7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8052F-66E2-49FB-A705-DAF9A3ED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CCCFE-5B46-4808-9435-69B746B2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A71A-5EF3-4E85-90D5-5C9C3520F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BA81-F798-489A-B4EA-D07B80DC2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3AC2-8B58-45C4-9F56-AD1EE2623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6EBB-1C4B-467D-8BAD-CD378BCB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FAFC-A2F6-47E3-A075-3D379FE45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1993-7CB4-44A5-9B6D-EAA57ABE2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41EF-243D-43F4-B602-F392534F0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0E48-1F44-4AA7-9037-E1D88CC05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F979-1152-4A30-B131-F04834EEB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12.1: More about parabola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nic sec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3048120" y="2820960"/>
            <a:ext cx="579096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General form for a conic se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cxy+dx+ey+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abola only 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dx+ey+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versing the parabola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ve been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we’ll shif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a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y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ape do you think this will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800600" y="2266920"/>
            <a:ext cx="37339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ry graphing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x+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455292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8:26:25Z</dcterms:created>
  <dc:creator>nuhs</dc:creator>
  <dc:description/>
  <dc:language>en-US</dc:language>
  <cp:lastModifiedBy>nuhs</cp:lastModifiedBy>
  <dcterms:modified xsi:type="dcterms:W3CDTF">2007-12-06T20:36:40Z</dcterms:modified>
  <cp:revision>3</cp:revision>
  <dc:subject/>
  <dc:title>12.1: More about parabolas</dc:title>
</cp:coreProperties>
</file>